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9A95-9557-4E09-83F5-AB395C11A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5FBF-6309-4AFA-A365-9B666B81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F7B-23B4-459D-9D00-509D1135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611-AA66-4BD7-A4C0-3A5118D2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AD5-3914-4BCD-BB77-BBB27900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62E-0CE6-445B-AE38-2D6F8834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2C1-521A-4CAF-B4E9-934089AA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032-8F54-490D-9966-5D3503B9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056-9556-46E9-841F-90458BDB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27A-31BF-4BB9-99C9-2B6649CF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060-CBDE-44AF-B6A5-67C6815D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33A-65AB-440A-BFAD-2CD0F7D4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025-F5DE-4214-9F2B-AB777D38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B8A-8658-4BE4-B189-E173324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90FB-FC38-416B-8EBD-25562F1C0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5:45Z</dcterms:modified>
  <cp:revision>102</cp:revision>
  <dc:subject/>
  <dc:title>Profile</dc:title>
</cp:coreProperties>
</file>